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24F7-774A-4725-8770-0D736B381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595C-91B7-49BB-896E-BDCBDEA9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9E10-1442-41B6-BF07-936280F4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217-AC0E-4ED6-8304-2A4BF180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E60-CEEB-4E97-B3AC-531C2BD5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A7A-2CD0-4F39-9180-EDD77225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89AC-9242-420B-8BEC-E0A9A51C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3476-3D69-4845-B8F0-3C7EA937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78DE-FBD5-48BC-A956-0623781E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1E3-CF5C-43D6-B2D1-25912A4D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6F99-0801-4C74-B959-7AEC6CDB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58AB-0510-4B26-A6A3-B5CACA186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0DDE-ADBE-483C-B037-6DA2786810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6"/>
          <p:cNvGrpSpPr/>
          <p:nvPr/>
        </p:nvGrpSpPr>
        <p:grpSpPr>
          <a:xfrm>
            <a:off x="115920" y="152280"/>
            <a:ext cx="8905680" cy="6602400"/>
            <a:chOff x="115920" y="152280"/>
            <a:chExt cx="8905680" cy="6602400"/>
          </a:xfrm>
        </p:grpSpPr>
        <p:pic>
          <p:nvPicPr>
            <p:cNvPr id="6" name="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15920" y="152280"/>
              <a:ext cx="8905680" cy="66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179280" y="189000"/>
              <a:ext cx="8785440" cy="64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9d9d9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1"/>
          <p:cNvSpPr/>
          <p:nvPr/>
        </p:nvSpPr>
        <p:spPr>
          <a:xfrm>
            <a:off x="685800" y="1628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Как нарисовать сло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одзаголовок 2"/>
          <p:cNvSpPr/>
          <p:nvPr/>
        </p:nvSpPr>
        <p:spPr>
          <a:xfrm>
            <a:off x="1371600" y="263700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апное ри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2340000" y="476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Искитим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овосибир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2484360" y="522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Автор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8" descr="070.gif"/>
          <p:cNvPicPr/>
          <p:nvPr/>
        </p:nvPicPr>
        <p:blipFill>
          <a:blip r:embed="rId1"/>
          <a:stretch/>
        </p:blipFill>
        <p:spPr>
          <a:xfrm>
            <a:off x="250920" y="3573360"/>
            <a:ext cx="3006720" cy="300528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6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68360" y="549360"/>
            <a:ext cx="82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не знаете, как нарисовать слона? Не отчаивайтесь! Возьмите в руки карандаш. Помните, рисовать нужно плавно, легкими штрихами, едва касаясь бумаги, так как часть линий у нас будет вспомогательными, и в конце работы нам придется их стереть. Итак, приступим к обучению поэтап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" descr="11949855221461346840elefante02_architetto_fr_01.svg.hi.png"/>
          <p:cNvPicPr/>
          <p:nvPr/>
        </p:nvPicPr>
        <p:blipFill>
          <a:blip r:embed="rId1"/>
          <a:stretch/>
        </p:blipFill>
        <p:spPr>
          <a:xfrm>
            <a:off x="2916360" y="3716280"/>
            <a:ext cx="36781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95280" y="404640"/>
            <a:ext cx="835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1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вую очередь рисуем два круга – один по больше для туловища, а второй на нем, он будет меньшего размера (будущая голова сло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2928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395280" y="404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2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мы рисуем хобот и ноги слона. Они могут быть произвольной формы, но хобот должен быть длинным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5975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648720" y="476280"/>
            <a:ext cx="787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3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на голове слоника рисуем у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257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395280" y="476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4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 самую последнюю очередь – глаза, клыки и хвостик нашего сло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576900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24000" y="333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Этап 5:</a:t>
            </a: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ираем все вспомогательные и уже не нужные нам линии. Теперь можно обвести слона поярче и даже красиво разукрас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547640" y="2276640"/>
            <a:ext cx="64738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100920" cy="4734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1835280" y="62064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! Мы нарисовали сло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пользуемые источни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clker.com/cliparts/5/b/f/4/11949855221461346840elefante02_architetto_fr_01.svg.hi.p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homesticker.ru/katalog/91236/070.gi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detkam.e-papa.ru/painting/1/2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56:34Z</dcterms:created>
  <dc:creator>Компас</dc:creator>
  <dc:description/>
  <dc:language>en-US</dc:language>
  <cp:lastModifiedBy>Owner</cp:lastModifiedBy>
  <dcterms:modified xsi:type="dcterms:W3CDTF">2011-06-16T10:29:37Z</dcterms:modified>
  <cp:revision>12</cp:revision>
  <dc:subject/>
  <dc:title>Слайд 1</dc:title>
</cp:coreProperties>
</file>